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617-0A1C-4E2D-AC59-8E85DFA4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CAF-4EE0-4457-A4B0-C535CCBE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BEF-F349-4FCC-9CDB-01E12F76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40B-6132-446A-9608-B89F1BF4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E72-C9FA-4037-8714-B2A6C7D2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6298-62B0-4AC5-8D29-B4FF6AA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E0EA-CEA0-44CC-87E5-D632511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E6DC-60A0-4ADD-A8F6-B605BF5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D45E-B285-4F11-91DD-B7A21E7C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E705-6D64-494D-BBE5-141C042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4CF-2369-4A73-8BBF-A45CD7B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6ED-5B44-47D3-B2C6-84F7C4C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91D-0456-479F-A410-252B612B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315A-C9A4-4518-8019-FE6DDBA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AE01-E81D-48E4-B503-AA5485F8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7D1-C86C-4EC5-AEA0-4A9B39B8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31A-3B96-45FE-9AF8-D2178CBF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B47-D097-4DA6-954A-4E88698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84B-9C62-49AB-865B-5B86655D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3BA-BDEA-4BA9-9150-08B5B20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AFD-4E89-41A5-A07F-2AB7773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059-FCC4-4027-A6B5-808367B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4BA-6C37-4118-971A-F58602D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029-58A1-46FE-A62F-AAC26E7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BC4-CFC4-4262-AA12-076776D2BB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36F0-4223-4621-81D1-B6C559CA7A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stalker.fizteh.ru/art_photo/fotosessions/troice_sergieva_lavra.html?start=0&amp;img=417094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stalker.fizteh.ru/art_photo/fotosessions/troice_sergieva_lavra.html?start=0&amp;img=417079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52360" y="-603360"/>
            <a:ext cx="9034560" cy="540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Agency FB"/>
              </a:rPr>
              <a:t>Да ведают потомки православных </a:t>
            </a:r>
            <a:br>
              <a:rPr sz="4800"/>
            </a:br>
            <a:br>
              <a:rPr sz="2000"/>
            </a:br>
            <a:r>
              <a:rPr b="0" i="1" lang="ru-RU" sz="4800" spc="-1" strike="noStrike">
                <a:solidFill>
                  <a:srgbClr val="ffffcc"/>
                </a:solidFill>
                <a:latin typeface="Agency FB"/>
              </a:rPr>
              <a:t>Земли родной минувшую судьбу…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085 STING - OCEAN VALTZ.mp3" descr=""/>
          <p:cNvPicPr/>
          <p:nvPr/>
        </p:nvPicPr>
        <p:blipFill>
          <a:blip r:embed="rId1"/>
          <a:stretch/>
        </p:blipFill>
        <p:spPr>
          <a:xfrm>
            <a:off x="539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8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10_708"/>
          <p:cNvPicPr/>
          <p:nvPr/>
        </p:nvPicPr>
        <p:blipFill>
          <a:blip r:embed="rId1"/>
          <a:stretch/>
        </p:blipFill>
        <p:spPr>
          <a:xfrm rot="20950200">
            <a:off x="250560" y="259920"/>
            <a:ext cx="1514520" cy="2303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5"/>
          <p:cNvSpPr/>
          <p:nvPr/>
        </p:nvSpPr>
        <p:spPr>
          <a:xfrm>
            <a:off x="1979640" y="476280"/>
            <a:ext cx="662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р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Преподобный Сергий Радонежский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шел в сборник произведений классика Серебряного века и русского зарубежь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.К.Зайцева «Преподобный Сергий Радонежский: Духовная проза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исан он в 20-е годы прошлого 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6" descr="10_709"/>
          <p:cNvPicPr/>
          <p:nvPr/>
        </p:nvPicPr>
        <p:blipFill>
          <a:blip r:embed="rId2"/>
          <a:stretch/>
        </p:blipFill>
        <p:spPr>
          <a:xfrm>
            <a:off x="7380360" y="1916280"/>
            <a:ext cx="1562040" cy="237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7"/>
          <p:cNvSpPr/>
          <p:nvPr/>
        </p:nvSpPr>
        <p:spPr>
          <a:xfrm>
            <a:off x="3059280" y="2133720"/>
            <a:ext cx="409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ига «Сергий Радонежский», автор известный историк Николай  Сергеевич Бори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первые вышедшая в серии «ЖЗЛ», будет естественным дополнением к предыдущим книгам о Сергии Радонежском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8" descr="10_707"/>
          <p:cNvPicPr/>
          <p:nvPr/>
        </p:nvPicPr>
        <p:blipFill>
          <a:blip r:embed="rId3"/>
          <a:stretch/>
        </p:blipFill>
        <p:spPr>
          <a:xfrm>
            <a:off x="324000" y="4076640"/>
            <a:ext cx="1722240" cy="2565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9"/>
          <p:cNvSpPr/>
          <p:nvPr/>
        </p:nvSpPr>
        <p:spPr>
          <a:xfrm>
            <a:off x="2050920" y="4313520"/>
            <a:ext cx="645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нига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Путь на Маковец: Читаем « Житие Сергия Радонежского» Епифания Премудр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- первый опыт чтения житийной литературы в школе. Она знакомит школьников с выдающимся памятником русской агиографии  (вид христианской литературы, содержащий жизнеописания «святых») – «Житием Сергея Радонежского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ill Sans MT"/>
              </a:rPr>
              <a:t>Синквейн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Сергий Радонеж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Два существитель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Три прилагатель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Три – четыре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Обобщающая фра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Rockwell Extra Bold"/>
              </a:rPr>
              <a:t>Размин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Былина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Богатыри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Идеализация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(Житие) (агиография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Rockwell Extra Bold"/>
              </a:rPr>
              <a:t>«Святой» - …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714240"/>
            <a:ext cx="89647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В религиозных представлениях: обладающий божественной благодать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Проникнутый высокими чувствами, возвышенный, идеаль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В христианстве и некоторых других религиях: человек, посвятивший свою жизнь церкви, а после смерти признанный образцом праведной жизни и носителем чудодейственной сил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Script MT Bold"/>
              </a:rPr>
              <a:t>(С.И. Ожегов, Н.Ю. Шведова «Толковый словарь русского языка», стр. 7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Rockwell Extra Bold"/>
              </a:rPr>
              <a:t>Святой</a:t>
            </a:r>
            <a:r>
              <a:rPr b="0" lang="ru-RU" sz="4400" spc="-1" strike="noStrike">
                <a:solidFill>
                  <a:srgbClr val="ffffff"/>
                </a:solidFill>
                <a:latin typeface="Rockwell Extra Bold"/>
              </a:rPr>
              <a:t> – человек, посвятивший свою жизнь Богу, делающий добро и ненавидящий зло, заслуживший у Бога за свою любовь и веру особых даров, например, дара чудотвор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Rockwell Extra Bold"/>
              </a:rPr>
              <a:t>Идеальный образ святого в истории и житийной литерату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Имя Святого, ему данно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выразительней Вели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Н.М. Карам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1374sm"/>
          <p:cNvPicPr/>
          <p:nvPr/>
        </p:nvPicPr>
        <p:blipFill>
          <a:blip r:embed="rId1"/>
          <a:stretch/>
        </p:blipFill>
        <p:spPr>
          <a:xfrm>
            <a:off x="250920" y="2421000"/>
            <a:ext cx="2527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Rockwell Extra Bold"/>
              </a:rPr>
              <a:t>Немного исто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 rot="20712000">
            <a:off x="324000" y="1125360"/>
            <a:ext cx="3708360" cy="284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 rot="390600">
            <a:off x="5724000" y="907920"/>
            <a:ext cx="317844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76720" y="3454560"/>
            <a:ext cx="3098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370"/>
          <p:cNvPicPr/>
          <p:nvPr/>
        </p:nvPicPr>
        <p:blipFill>
          <a:blip r:embed="rId1"/>
          <a:stretch/>
        </p:blipFill>
        <p:spPr>
          <a:xfrm>
            <a:off x="179280" y="189000"/>
            <a:ext cx="8709120" cy="536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885"/>
          <p:cNvPicPr/>
          <p:nvPr/>
        </p:nvPicPr>
        <p:blipFill>
          <a:blip r:embed="rId2"/>
          <a:stretch/>
        </p:blipFill>
        <p:spPr>
          <a:xfrm>
            <a:off x="6948360" y="3817800"/>
            <a:ext cx="2000520" cy="304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5896"/>
          <p:cNvPicPr/>
          <p:nvPr/>
        </p:nvPicPr>
        <p:blipFill>
          <a:blip r:embed="rId3"/>
          <a:stretch/>
        </p:blipFill>
        <p:spPr>
          <a:xfrm>
            <a:off x="179280" y="3716280"/>
            <a:ext cx="2282760" cy="314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Храм &quot;Сошествия святого духа&quot; и &quot;Троицкий Собор&quot;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4376880"/>
            <a:ext cx="374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10_707"/>
          <p:cNvPicPr/>
          <p:nvPr/>
        </p:nvPicPr>
        <p:blipFill>
          <a:blip r:embed="rId1"/>
          <a:stretch/>
        </p:blipFill>
        <p:spPr>
          <a:xfrm>
            <a:off x="5954760" y="2106720"/>
            <a:ext cx="3189240" cy="4751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Rockwell Extra Bold"/>
              </a:rPr>
              <a:t>Особенности жития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Повествование ведется от 3-го лица</a:t>
            </a:r>
            <a:r>
              <a:rPr b="1" lang="ru-RU" sz="2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билие церковнославянизмов</a:t>
            </a:r>
            <a:r>
              <a:rPr b="1" lang="ru-RU" sz="2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сновной прием при изображении героя – </a:t>
            </a:r>
            <a:r>
              <a:rPr b="1" i="1" lang="ru-RU" sz="4000" spc="-1" strike="noStrike">
                <a:solidFill>
                  <a:srgbClr val="ffffff"/>
                </a:solidFill>
                <a:latin typeface="Gill Sans Ultra Bold Condensed"/>
              </a:rPr>
              <a:t>идеализац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собый композиционный стр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Внутренний мир героя не изображается в развитии, он избранник с момента рожден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Пространство и время в житии условно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376sm"/>
          <p:cNvPicPr/>
          <p:nvPr/>
        </p:nvPicPr>
        <p:blipFill>
          <a:blip r:embed="rId1"/>
          <a:stretch/>
        </p:blipFill>
        <p:spPr>
          <a:xfrm>
            <a:off x="0" y="0"/>
            <a:ext cx="3635280" cy="282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896"/>
          <p:cNvPicPr/>
          <p:nvPr/>
        </p:nvPicPr>
        <p:blipFill>
          <a:blip r:embed="rId2"/>
          <a:stretch/>
        </p:blipFill>
        <p:spPr>
          <a:xfrm>
            <a:off x="3132000" y="2286000"/>
            <a:ext cx="332280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000519671"/>
          <p:cNvPicPr/>
          <p:nvPr/>
        </p:nvPicPr>
        <p:blipFill>
          <a:blip r:embed="rId3"/>
          <a:stretch/>
        </p:blipFill>
        <p:spPr>
          <a:xfrm rot="21253800">
            <a:off x="395280" y="3068280"/>
            <a:ext cx="2448000" cy="36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5893"/>
          <p:cNvPicPr/>
          <p:nvPr/>
        </p:nvPicPr>
        <p:blipFill>
          <a:blip r:embed="rId4"/>
          <a:stretch/>
        </p:blipFill>
        <p:spPr>
          <a:xfrm rot="483000">
            <a:off x="6697440" y="3060720"/>
            <a:ext cx="2251080" cy="33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81520" y="0"/>
            <a:ext cx="3462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5:50:54Z</dcterms:created>
  <dc:creator>user</dc:creator>
  <dc:description/>
  <dc:language>en-US</dc:language>
  <cp:lastModifiedBy>User</cp:lastModifiedBy>
  <dcterms:modified xsi:type="dcterms:W3CDTF">2007-10-31T06:38:34Z</dcterms:modified>
  <cp:revision>18</cp:revision>
  <dc:subject/>
  <dc:title>Слайд 1</dc:title>
</cp:coreProperties>
</file>